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236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6B3DB-AB7B-46E3-A7FF-083FA4A1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0D4A1-5CD5-4049-83B2-6EC328FA8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8A2-8169-4C81-AC3A-E745F6ED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18E-2FF0-492B-B2D1-C4287815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C91-53A7-429C-BED2-D9CE9886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A00-7CF1-4FE1-B6B3-1C76F5E0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E8FA-691B-4FB3-9597-D433A52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627E-F6A0-45D2-9103-8CCC6715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E54B-34C4-4A26-BA0D-7656CC09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C563-07FC-47B2-BF33-F703F05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F97-B98D-4926-89A5-173A9BA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A9E-1895-4046-B4B6-0525CD6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0184-5BBF-472E-91B3-3D8CEA9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CAC-82F3-447F-9A66-17C3697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75B6-9DCE-4381-8301-1ADD00F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584-8D4C-4A78-B9F8-CBA128F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DDA7-7579-4E57-B209-2D2501AA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08CF-3D78-494C-92ED-1F76C8F2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26B-0967-43B2-9999-0B02210E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6070-A4A6-4677-932E-006D1B8A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3D3A-F75E-4B76-A5A8-F6CD0170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EA0F-848B-40F6-B4EB-A37D719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50AE-7B0D-4124-AA1C-A845DBC6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3331-ED13-430F-B78A-E21A4561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6FC-FE54-4FC1-989F-F56B7FF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72F2-A93D-4B2A-A491-60460ED7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15AD-6255-437B-AA01-0AE3DCB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28FB-19DE-48E5-8B95-D55BAE7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50CD-BE62-4582-AE13-FDB439B1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7715-684A-481F-BCAF-918EB16C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9499-FB5C-48CE-841E-8B072196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F906-CB04-482E-B8BB-DF484226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312C-C8BD-4344-9C5C-4B7E3D59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DDA3-F0A7-4EAB-B511-41A076C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ACD0-B12A-40B8-9473-C4B7AC0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FF1-F087-43BF-8AB0-92BD546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B25AA-5EEE-40B0-AECD-1A93D40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94A6-E496-4570-A6DC-5B890B9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43ED-32F6-4D62-9378-80B1E86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53AE-6A62-420C-B022-5C03542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117A-2B54-4EA1-B80B-2F93229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CBE7-41B8-45B5-B2B0-B6A01C9A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E93C-5B03-4BB2-80FE-A4B3459B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B260-59F4-4DF3-B9C2-49A0F066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04D0-F92E-486C-83F0-2DE8B8B9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02E-CB1E-406F-94C5-F605B8E5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22A-B9DF-4735-AE2E-71F625B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629-5D93-4557-87A3-5C66DEB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2A3-5D66-491F-BDBC-96B919B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299-3904-4F31-8A6A-B8AFB6F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C6AC8-D704-49DB-BEC0-AE2469FF688A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2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6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5DE51-0140-4BFE-9E13-4ACA8E68903E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6081D-95BC-4AC7-966F-903BDD142D4F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bg-BG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C0DFE-8E4B-4C0B-97C4-46A2B3C9B752}" type="slidenum">
              <a:rPr b="0" lang="bg-BG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5"/>
          <p:cNvSpPr/>
          <p:nvPr/>
        </p:nvSpPr>
        <p:spPr>
          <a:xfrm>
            <a:off x="1187280" y="14842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84360" y="260280"/>
            <a:ext cx="8076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  <a:ea typeface="Calibri"/>
              </a:rPr>
              <a:t>БЪЛГАРСКА АГЕНЦИЯ ЗА ЕКСПОРТНО ЗАСТРАХОВАНЕ ЕАД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684360" y="4724280"/>
            <a:ext cx="8076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ждународна конференц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ова и инвестиционна подкрепа за МСП – Sofia International Money Expo“ (SIM EXPO 2024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09.10.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  <a:ea typeface="Calibri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  <a:ea typeface="Calibri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905040" y="1628640"/>
            <a:ext cx="7705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430200" y="450720"/>
            <a:ext cx="828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 НАС – БЪЛГАРСКА АГЕНЦИЯ ЗА ЕКСПОРТНО ЗАСТРАХОВАНЕ /БАЕЗ/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76360" y="1042920"/>
            <a:ext cx="7991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БАЕЗ е единственото в Р България застрахователно дружество - 100% държавна собственост, с Принципал Министърът на Икономиката и индустрията. Основано е през 1998 г. и има над 20-годишен опит в областта на експортното застраховане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ейността на БАЕЗ се регламентира съгласно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два основни регламента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кона за експортното застраховане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(дейност за сметка на държавата). По дейността си за сметка на държавата БАЕЗ гарантира изплащането на застрахователни обезщетения посредством ежегодно заделяни средства в Държавния бюджет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Кодекса за застраховането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(дейност за собствена сметка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Мисията на БАЕЗ е да подкрепя политиката на държавата в няколко основни направления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Стимулиране на износа на стоки и услуги на българските предприяти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амаляване междуфирмената задлъжнялост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Улесняване достъпа до финансиране на фирми от сегмента МСП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3"/>
          <p:cNvSpPr/>
          <p:nvPr/>
        </p:nvSpPr>
        <p:spPr>
          <a:xfrm>
            <a:off x="0" y="44280"/>
            <a:ext cx="913464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Българска компания, която търгува на отсрочено плащане в страната и в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чужди държави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ползвател на застрахователно обезщетение: Банк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крити рискове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еплатежоспособност на длъжник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бавяне на дължимо плащане на длъжник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извънредни обстоятелства в държавата на длъжника, възпрепятстващи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дължимо плащане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(за длъжници извън ЕС и ОИСР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опълнително обезпечаване на кредити на МСП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достъп на МСП до оборотно финансиран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защита на финансиращата институция от понасяне на финансови загуби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исоколиквидно обезпечение съгласно Базел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III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намаляващо провизиит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11" descr="Family, insurance, life, service icon - Download on Iconfinder"/>
          <p:cNvPicPr/>
          <p:nvPr/>
        </p:nvPicPr>
        <p:blipFill>
          <a:blip r:embed="rId1"/>
          <a:stretch/>
        </p:blipFill>
        <p:spPr>
          <a:xfrm>
            <a:off x="1066680" y="955800"/>
            <a:ext cx="625680" cy="625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1692360" y="1100160"/>
            <a:ext cx="68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и на търговски риск /в полза на трето ползващо лице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755640" y="324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ИТЕ ЗАСТРАХОВАТЕЛНИ РЕШЕНИ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НАЗНАЧЕНИ ЗА БЪЛГАРСКИ КОМПАНИ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0" y="44280"/>
            <a:ext cx="9144000" cy="70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ЕТО ЗАСТРАХОВАТЕЛНО РЕШЕНИЕ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НАЗНАЧЕНО ЗА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НКИ И ФИРМИ - ИЗНОСИТЕЛ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 „Кредити за предекспортно финансиране“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Банка/Финансова институ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крити рискове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еплатежоспособност на Кредитополучател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бавяне на дължимо плащане при настъпила пълна изискуемост на кредита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Максимален размер на покритие: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до 90% от размера на кредит за предекспортно финансиране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Специфика на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та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страхованият предоставя проекти и/или сключени договори на Кредитопо-       лучателя за износ на български стоки или услуги в чужбин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44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Кредитополучателят сключва Застраховка на търговски и политически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 риск в БАЕЗ за вземанията по договор за износ, предмет на финансиране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защита на финансиращата институция от понасяне на финансови загуби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щита на износителя от понасяне на финансови загуби при реализиране на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експорт на отстрочено плащане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исоколиквидно обезпечение съгласно Базел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III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намаляващо провизиит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2" descr="Business, company, credit, insurance, invest, money, umbrella icon -  Download on Iconfinder"/>
          <p:cNvPicPr/>
          <p:nvPr/>
        </p:nvPicPr>
        <p:blipFill>
          <a:blip r:embed="rId1"/>
          <a:stretch/>
        </p:blipFill>
        <p:spPr>
          <a:xfrm>
            <a:off x="1332000" y="750960"/>
            <a:ext cx="720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0" y="44280"/>
            <a:ext cx="9134640" cy="64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ЕТО ЗАСТРАХОВАТЕЛНО РЕШЕНИЕ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НАЗНАЧЕНО ЗА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НКИ И МСП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 „МСП Финансови партньори“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Банка/Финансова институция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крити рискове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неплатежоспособност на Кредитополучател - МСП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забавяне на дължимо плащане при настъпила пълна изискуемост на кредита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Максимален размер на покритие: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между 3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7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% от размер на кредит на МСП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опълващ до 100% обезпечението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учредено от клиента в полза на банката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иемливи обезпечения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ипотека на жилищен или друг имот, залог на парични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средства, залог на стоково-материални ценности, залог на ДМА и др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Специфика на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оцеса при щета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БАЕЗ изплаща при покана пропорционална част на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реализираното (частично или пълно) обезпечение по кредита от страна на банкат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Максимален размер на кредитен лимит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1 млн. лева – за микро и малки предприятия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2 млн. лева – за средни предприятия;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ференциално тарифно число (премиен процент)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допълнително обезпечаване на кредити на МСП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достъп на МСП до оборотно финансиран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защита на финансиращата институция от понасяне на финансови загуби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исоколиквидно обезпечение съгласно Базел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III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намаляващо провизиит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2" descr="Business, company, credit, insurance, invest, money, umbrella icon -  Download on Iconfinder"/>
          <p:cNvPicPr/>
          <p:nvPr/>
        </p:nvPicPr>
        <p:blipFill>
          <a:blip r:embed="rId1"/>
          <a:stretch/>
        </p:blipFill>
        <p:spPr>
          <a:xfrm>
            <a:off x="1908000" y="692280"/>
            <a:ext cx="721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0" y="44280"/>
            <a:ext cx="913464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ан: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Български компании, износители на български стоки и/или услуги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сключили договори с чуждестранни контрагенти от ЕС и ЕИО, които изискват гаран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  <a:ea typeface="Calibri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Обхват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гаранции за участие в търг, гаранции за авансово плащане, гаранции за добро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изпълнение, гаранции за поддръжка и/или гаранционно обслужван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крити проекти: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Договори с чуждестранни публични или частни бенефициент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крити рискове: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изпълнение или неточно изпълнение на гарантираните с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договор задължения към Бенефициен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редназначение: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обезпечаване на обществени поръчки при по-ниски разходи и без необходимост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от блокиране на парични средства, учредяване на ипотеки и залог на активи от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Изпълнител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 удобна, лесна и бърза процедура по издаване на гаранцият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гъвкавост и възможност за участие в по-голям брой поръчки.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0" descr="Free Icon | Certificate"/>
          <p:cNvPicPr/>
          <p:nvPr/>
        </p:nvPicPr>
        <p:blipFill>
          <a:blip r:embed="rId1"/>
          <a:stretch/>
        </p:blipFill>
        <p:spPr>
          <a:xfrm>
            <a:off x="1619280" y="1341360"/>
            <a:ext cx="716040" cy="636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2335320" y="1488960"/>
            <a:ext cx="51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Застраховка Гаранции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на чуждестранни проект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755640" y="324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ШИЯТ ПРЕДСТОЯЩ ПРОЕК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СТРАХОВАТЕЛНО РЕШЕНИЕ, ПРЕДНАЗНАЧЕНО З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БЪЛГАРСКИ КОМПАНИИ – УЧАСТНИЦИ В ЧУЖДЕСТРАНЕН ПРОЕК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582560" y="1268280"/>
            <a:ext cx="59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  <a:ea typeface="Calibri"/>
              </a:rPr>
              <a:t>СВЪРЖЕТЕ СЕ С НАС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476360" y="2006640"/>
            <a:ext cx="608508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Дирекция „Застраховане“, отдел „Връзки с клиенти“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-mail: </a:t>
            </a:r>
            <a:r>
              <a:rPr b="0" lang="en-US" sz="1600" spc="-1" strike="noStrike">
                <a:solidFill>
                  <a:srgbClr val="3f7819"/>
                </a:solidFill>
                <a:latin typeface="Trebuchet MS"/>
                <a:ea typeface="Calibri"/>
              </a:rPr>
              <a:t>accounts@baez.b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ел.: +359 2 923 69 14, 16, 26, 34, 4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Моб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: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+359 884 955751, +359 887 624325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+359 884 430259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+359 88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4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133685,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+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359 885 120193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2:03:20Z</dcterms:created>
  <dc:creator>Vessi</dc:creator>
  <dc:description/>
  <dc:language>en-US</dc:language>
  <cp:lastModifiedBy>Margarita Damyanova</cp:lastModifiedBy>
  <cp:lastPrinted>2022-09-13T11:28:17Z</cp:lastPrinted>
  <dcterms:modified xsi:type="dcterms:W3CDTF">2024-10-10T05:51:12Z</dcterms:modified>
  <cp:revision>1250</cp:revision>
  <dc:subject/>
  <dc:title>PowerPoint Presentation</dc:title>
</cp:coreProperties>
</file>